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CD16-917F-4351-B40F-65AE6581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D4C-F80C-4A8A-9EBB-7934073670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9E8C-6236-4922-A0F6-041E8A4958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A97C-8772-4A55-8F68-7A774E0950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4BFA-56F4-4B9C-B1FF-ECB4EEA79C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9C5-9E6D-4A0A-BE78-8C507F79BB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C828-DE88-45D3-9775-FA82984A24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772-7F6A-4CA5-A893-C1AA0DD81C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839-429A-474A-B374-F40164750C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9BF-41AD-49EB-A424-35CE1B323B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502D-4276-4EC9-968E-C870214113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B11-0DE1-4310-B71E-ADDA209730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6137-E820-4613-BBD6-41A64D06B8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D0BF-2F6B-48FB-8634-BE0CD7767E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7637-0776-4C6A-A7FB-8F8EE4E373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CC0D-501A-4EFD-BB27-5D41CEC355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4498-E0A8-4F6F-B39D-525F97EF86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C64F-C61C-48E7-A902-8E9CB58F6B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B2F2-1DD0-441C-9141-DAAF0E855A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9E6-AE58-449F-92B9-A49724E933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177-B8FE-4B52-A788-17FB64C5F3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30E-6BAF-4C06-9014-5D95705F10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56A-FC35-48A4-A7AA-A54F32F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B80-4C89-477C-972E-C373DE1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CFD-2A93-4C59-9A9D-5CE1780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92E-B852-4702-869A-BF69426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EB7-C99C-4231-A286-668AF5D1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54C0-C78D-47A0-BF15-ED4D5DE3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82D8-2B7C-41F3-B8FE-F8F300D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B20-F98F-409B-8759-86822E0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BFA-9536-4FC5-99DF-B5D7D190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BF9A-9856-48C0-A1D5-0C2C8A5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9202-B3C6-459B-B978-F499593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13E-8DC1-4D0F-A5B2-2F2FF18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7B32-3FFA-4F5A-82C4-771CF6E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2495-A019-4F26-B9BF-8C3FB98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8DEA-9722-46DB-A67C-2316937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FD16-C469-4417-8562-655E1463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8655-81AD-41BA-BB18-F52AD86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67D-5F31-4B43-936F-3FC364B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05A-BDBB-48AD-9F30-82ACDFF5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E77-D992-41D7-81B0-DA2C6B2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456-507E-4311-9543-371A625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FEF-8A48-4D27-B33F-EAC44D9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FD-B7B7-4D61-AEB3-8B6B66A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265-07B4-4827-BB60-6035E664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189-90FE-44EB-BAF3-D1C1D6FECF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E70-386D-4F44-97F1-3AC259461D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1-11-14T02:11:27Z</dcterms:modified>
  <cp:revision>39</cp:revision>
  <dc:subject/>
  <dc:title>Slide 1</dc:title>
</cp:coreProperties>
</file>